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43E19A-E362-4C5E-9269-FAD3FC39FB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B36036-2794-4EEC-BC0A-A3C3E34344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1FD04E-FFD7-472C-83CD-FA11B87EF44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508581-EE06-4800-8867-7E6279CA2BC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DCAA10-F6E6-4415-9D36-2C6E853A9F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078C14-CC89-4D9B-8E23-E3A51EE0FA9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  Page </a:t>
            </a:r>
            <a:fld id="{BAB99502-8854-47BA-9CEC-E002EAEA9784}" type="slidenum"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179800" y="2281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f1f0"/>
                </a:solidFill>
                <a:latin typeface="Arial"/>
              </a:rPr>
              <a:t>"THÊM CHỦ Đ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00000"/>
            <a:ext cx="609120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4718160" y="1219320"/>
            <a:ext cx="3390840" cy="2197080"/>
            <a:chOff x="4718160" y="1219320"/>
            <a:chExt cx="3390840" cy="2197080"/>
          </a:xfrm>
        </p:grpSpPr>
        <p:pic>
          <p:nvPicPr>
            <p:cNvPr id="87" name="Picture 4" descr="Blue_boxes_a"/>
            <p:cNvPicPr/>
            <p:nvPr/>
          </p:nvPicPr>
          <p:blipFill>
            <a:blip r:embed="rId1"/>
            <a:srcRect l="0" t="0" r="64531" b="0"/>
            <a:stretch/>
          </p:blipFill>
          <p:spPr>
            <a:xfrm>
              <a:off x="471816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5240160" y="154764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5170320" y="2092320"/>
              <a:ext cx="23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903240" y="1219320"/>
            <a:ext cx="3390840" cy="2197080"/>
            <a:chOff x="903240" y="1219320"/>
            <a:chExt cx="3390840" cy="2197080"/>
          </a:xfrm>
        </p:grpSpPr>
        <p:pic>
          <p:nvPicPr>
            <p:cNvPr id="91" name="Picture 6" descr="Blue_boxes_a"/>
            <p:cNvPicPr/>
            <p:nvPr/>
          </p:nvPicPr>
          <p:blipFill>
            <a:blip r:embed="rId2"/>
            <a:srcRect l="0" t="0" r="64531" b="0"/>
            <a:stretch/>
          </p:blipFill>
          <p:spPr>
            <a:xfrm>
              <a:off x="90324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407960" y="15476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374480" y="2092320"/>
              <a:ext cx="2406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Nhóm 12" descr=""/>
          <p:cNvPicPr/>
          <p:nvPr/>
        </p:nvPicPr>
        <p:blipFill>
          <a:blip r:embed="rId3"/>
          <a:stretch/>
        </p:blipFill>
        <p:spPr>
          <a:xfrm>
            <a:off x="749160" y="4054320"/>
            <a:ext cx="767556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Users\Administrator\Desktop\PowerPoint Dep full vien trang.png"/>
          <p:cNvPicPr/>
          <p:nvPr/>
        </p:nvPicPr>
        <p:blipFill>
          <a:blip r:embed="rId4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9760" y="44460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 Cond"/>
              </a:rPr>
              <a:t>Dòng chảy quá trìn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3773520" y="1270080"/>
            <a:ext cx="45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d0d5d1"/>
                </a:solidFill>
                <a:latin typeface="Arial"/>
              </a:rPr>
              <a:t>Thêm hoặc loại bỏ các hình dạng mũi tên để thay đổi độ dài của quá tr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Nhóm 51"/>
          <p:cNvGrpSpPr/>
          <p:nvPr/>
        </p:nvGrpSpPr>
        <p:grpSpPr>
          <a:xfrm>
            <a:off x="1783800" y="1243080"/>
            <a:ext cx="5148000" cy="3968640"/>
            <a:chOff x="1783800" y="1243080"/>
            <a:chExt cx="5148000" cy="3968640"/>
          </a:xfrm>
        </p:grpSpPr>
        <p:sp>
          <p:nvSpPr>
            <p:cNvPr id="100" name="Freeform 16"/>
            <p:cNvSpPr/>
            <p:nvPr/>
          </p:nvSpPr>
          <p:spPr>
            <a:xfrm>
              <a:off x="1783800" y="445680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f110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54600" y="4447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c230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4307040" y="444816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39471d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559840" y="445464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58" y="0"/>
                  </a:moveTo>
                  <a:lnTo>
                    <a:pt x="158" y="2"/>
                  </a:lnTo>
                  <a:lnTo>
                    <a:pt x="178" y="2"/>
                  </a:lnTo>
                  <a:lnTo>
                    <a:pt x="674" y="178"/>
                  </a:lnTo>
                  <a:lnTo>
                    <a:pt x="1170" y="2"/>
                  </a:lnTo>
                  <a:lnTo>
                    <a:pt x="1190" y="2"/>
                  </a:lnTo>
                  <a:lnTo>
                    <a:pt x="1190" y="634"/>
                  </a:lnTo>
                  <a:lnTo>
                    <a:pt x="166" y="634"/>
                  </a:lnTo>
                  <a:lnTo>
                    <a:pt x="166" y="642"/>
                  </a:lnTo>
                  <a:lnTo>
                    <a:pt x="162" y="634"/>
                  </a:lnTo>
                  <a:lnTo>
                    <a:pt x="158" y="634"/>
                  </a:lnTo>
                  <a:lnTo>
                    <a:pt x="158" y="626"/>
                  </a:lnTo>
                  <a:lnTo>
                    <a:pt x="0" y="31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586e2c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743800" y="366480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708c38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5743800" y="285444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0" y="0"/>
                  </a:move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af47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4500720" y="2854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032" y="14"/>
                  </a:moveTo>
                  <a:lnTo>
                    <a:pt x="103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1024" y="648"/>
                  </a:lnTo>
                  <a:lnTo>
                    <a:pt x="1024" y="656"/>
                  </a:lnTo>
                  <a:lnTo>
                    <a:pt x="1028" y="648"/>
                  </a:lnTo>
                  <a:lnTo>
                    <a:pt x="1032" y="648"/>
                  </a:lnTo>
                  <a:lnTo>
                    <a:pt x="1032" y="640"/>
                  </a:lnTo>
                  <a:lnTo>
                    <a:pt x="1190" y="328"/>
                  </a:lnTo>
                  <a:lnTo>
                    <a:pt x="1032" y="14"/>
                  </a:lnTo>
                  <a:close/>
                </a:path>
              </a:pathLst>
            </a:custGeom>
            <a:solidFill>
              <a:srgbClr val="9abb5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34"/>
            <p:cNvGrpSpPr/>
            <p:nvPr/>
          </p:nvGrpSpPr>
          <p:grpSpPr>
            <a:xfrm>
              <a:off x="3247920" y="2845080"/>
              <a:ext cx="1369800" cy="754920"/>
              <a:chOff x="3247920" y="2845080"/>
              <a:chExt cx="1369800" cy="75492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247920" y="2845080"/>
                <a:ext cx="1369800" cy="754920"/>
              </a:xfrm>
              <a:custGeom>
                <a:avLst/>
                <a:gdLst/>
                <a:ahLst/>
                <a:rect l="l" t="t" r="r" b="b"/>
                <a:pathLst>
                  <a:path w="1190" h="656">
                    <a:moveTo>
                      <a:pt x="1032" y="14"/>
                    </a:moveTo>
                    <a:lnTo>
                      <a:pt x="10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58" y="328"/>
                    </a:lnTo>
                    <a:lnTo>
                      <a:pt x="0" y="640"/>
                    </a:lnTo>
                    <a:lnTo>
                      <a:pt x="0" y="648"/>
                    </a:lnTo>
                    <a:lnTo>
                      <a:pt x="1024" y="648"/>
                    </a:lnTo>
                    <a:lnTo>
                      <a:pt x="1024" y="656"/>
                    </a:lnTo>
                    <a:lnTo>
                      <a:pt x="1028" y="648"/>
                    </a:lnTo>
                    <a:lnTo>
                      <a:pt x="1032" y="648"/>
                    </a:lnTo>
                    <a:lnTo>
                      <a:pt x="1032" y="640"/>
                    </a:lnTo>
                    <a:lnTo>
                      <a:pt x="1190" y="328"/>
                    </a:lnTo>
                    <a:lnTo>
                      <a:pt x="1032" y="14"/>
                    </a:lnTo>
                    <a:close/>
                  </a:path>
                </a:pathLst>
              </a:custGeom>
              <a:solidFill>
                <a:srgbClr val="acc777"/>
              </a:solidFill>
              <a:ln w="0">
                <a:solidFill>
                  <a:srgbClr val="55595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20"/>
              <p:cNvSpPr/>
              <p:nvPr/>
            </p:nvSpPr>
            <p:spPr>
              <a:xfrm>
                <a:off x="3551760" y="3056760"/>
                <a:ext cx="200160" cy="5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7"/>
            <p:cNvSpPr/>
            <p:nvPr/>
          </p:nvSpPr>
          <p:spPr>
            <a:xfrm>
              <a:off x="1986120" y="286128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032" y="0"/>
                  </a:moveTo>
                  <a:lnTo>
                    <a:pt x="1032" y="2"/>
                  </a:lnTo>
                  <a:lnTo>
                    <a:pt x="1012" y="2"/>
                  </a:lnTo>
                  <a:lnTo>
                    <a:pt x="516" y="178"/>
                  </a:lnTo>
                  <a:lnTo>
                    <a:pt x="20" y="2"/>
                  </a:lnTo>
                  <a:lnTo>
                    <a:pt x="0" y="2"/>
                  </a:lnTo>
                  <a:lnTo>
                    <a:pt x="0" y="634"/>
                  </a:lnTo>
                  <a:lnTo>
                    <a:pt x="1024" y="634"/>
                  </a:lnTo>
                  <a:lnTo>
                    <a:pt x="1024" y="642"/>
                  </a:lnTo>
                  <a:lnTo>
                    <a:pt x="1028" y="634"/>
                  </a:lnTo>
                  <a:lnTo>
                    <a:pt x="1032" y="634"/>
                  </a:lnTo>
                  <a:lnTo>
                    <a:pt x="1032" y="626"/>
                  </a:lnTo>
                  <a:lnTo>
                    <a:pt x="1190" y="3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cdd0c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986120" y="205344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dedfd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1986120" y="124308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eeefe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046960" y="14472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2046960" y="23058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2046960" y="3042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343404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7"/>
            <p:cNvSpPr/>
            <p:nvPr/>
          </p:nvSpPr>
          <p:spPr>
            <a:xfrm>
              <a:off x="467136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589068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5846040" y="39175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584604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>
              <a:off x="447480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14928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7"/>
            <p:cNvSpPr/>
            <p:nvPr/>
          </p:nvSpPr>
          <p:spPr>
            <a:xfrm>
              <a:off x="181944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98720" y="2170080"/>
            <a:ext cx="417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Nhóm 2"/>
          <p:cNvGrpSpPr/>
          <p:nvPr/>
        </p:nvGrpSpPr>
        <p:grpSpPr>
          <a:xfrm>
            <a:off x="4903920" y="1303200"/>
            <a:ext cx="3693960" cy="3691080"/>
            <a:chOff x="4903920" y="1303200"/>
            <a:chExt cx="3693960" cy="3691080"/>
          </a:xfrm>
        </p:grpSpPr>
        <p:grpSp>
          <p:nvGrpSpPr>
            <p:cNvPr id="127" name="Freeform 44"/>
            <p:cNvGrpSpPr/>
            <p:nvPr/>
          </p:nvGrpSpPr>
          <p:grpSpPr>
            <a:xfrm>
              <a:off x="4903920" y="2239560"/>
              <a:ext cx="1058040" cy="1812240"/>
              <a:chOff x="4903920" y="2239560"/>
              <a:chExt cx="1058040" cy="1812240"/>
            </a:xfrm>
          </p:grpSpPr>
          <p:pic>
            <p:nvPicPr>
              <p:cNvPr id="128" name="Freeform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3920" y="2239560"/>
                <a:ext cx="105804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918320" y="2256120"/>
                <a:ext cx="103140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Freeform 47"/>
            <p:cNvGrpSpPr/>
            <p:nvPr/>
          </p:nvGrpSpPr>
          <p:grpSpPr>
            <a:xfrm>
              <a:off x="5163840" y="3610800"/>
              <a:ext cx="1571760" cy="1383480"/>
              <a:chOff x="5163840" y="3610800"/>
              <a:chExt cx="1571760" cy="1383480"/>
            </a:xfrm>
          </p:grpSpPr>
          <p:pic>
            <p:nvPicPr>
              <p:cNvPr id="131" name="Freeform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3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178240" y="3626280"/>
                <a:ext cx="15444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Freeform 49"/>
            <p:cNvGrpSpPr/>
            <p:nvPr/>
          </p:nvGrpSpPr>
          <p:grpSpPr>
            <a:xfrm>
              <a:off x="5163840" y="1303200"/>
              <a:ext cx="1571760" cy="1377360"/>
              <a:chOff x="5163840" y="1303200"/>
              <a:chExt cx="1571760" cy="1377360"/>
            </a:xfrm>
          </p:grpSpPr>
          <p:pic>
            <p:nvPicPr>
              <p:cNvPr id="134" name="Freeform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3840" y="1303200"/>
                <a:ext cx="1571760" cy="137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178240" y="1320120"/>
                <a:ext cx="15444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Freeform 46"/>
            <p:cNvGrpSpPr/>
            <p:nvPr/>
          </p:nvGrpSpPr>
          <p:grpSpPr>
            <a:xfrm>
              <a:off x="6765840" y="1303200"/>
              <a:ext cx="1571760" cy="1383480"/>
              <a:chOff x="6765840" y="1303200"/>
              <a:chExt cx="1571760" cy="1383480"/>
            </a:xfrm>
          </p:grpSpPr>
          <p:pic>
            <p:nvPicPr>
              <p:cNvPr id="137" name="Freeform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5840" y="13032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6779160" y="132012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Freeform 45"/>
            <p:cNvGrpSpPr/>
            <p:nvPr/>
          </p:nvGrpSpPr>
          <p:grpSpPr>
            <a:xfrm>
              <a:off x="7534080" y="2239560"/>
              <a:ext cx="1063800" cy="1812240"/>
              <a:chOff x="7534080" y="2239560"/>
              <a:chExt cx="1063800" cy="1812240"/>
            </a:xfrm>
          </p:grpSpPr>
          <p:pic>
            <p:nvPicPr>
              <p:cNvPr id="140" name="Freeform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7534080" y="2239560"/>
                <a:ext cx="106380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551000" y="2256120"/>
                <a:ext cx="103104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Freeform 48"/>
            <p:cNvGrpSpPr/>
            <p:nvPr/>
          </p:nvGrpSpPr>
          <p:grpSpPr>
            <a:xfrm>
              <a:off x="6765840" y="3610800"/>
              <a:ext cx="1571760" cy="1383480"/>
              <a:chOff x="6765840" y="3610800"/>
              <a:chExt cx="1571760" cy="1383480"/>
            </a:xfrm>
          </p:grpSpPr>
          <p:pic>
            <p:nvPicPr>
              <p:cNvPr id="143" name="Freeform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79160" y="362628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Oval 55"/>
            <p:cNvGrpSpPr/>
            <p:nvPr/>
          </p:nvGrpSpPr>
          <p:grpSpPr>
            <a:xfrm>
              <a:off x="5979960" y="2372400"/>
              <a:ext cx="1553760" cy="1552680"/>
              <a:chOff x="5979960" y="2372400"/>
              <a:chExt cx="1553760" cy="1552680"/>
            </a:xfrm>
          </p:grpSpPr>
          <p:pic>
            <p:nvPicPr>
              <p:cNvPr id="146" name="Oval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5979960" y="2372400"/>
                <a:ext cx="1553760" cy="15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19720" y="2610720"/>
                <a:ext cx="107532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Rectangle 56"/>
            <p:cNvGrpSpPr/>
            <p:nvPr/>
          </p:nvGrpSpPr>
          <p:grpSpPr>
            <a:xfrm>
              <a:off x="6155280" y="2928240"/>
              <a:ext cx="1203120" cy="398520"/>
              <a:chOff x="6155280" y="2928240"/>
              <a:chExt cx="1203120" cy="398520"/>
            </a:xfrm>
          </p:grpSpPr>
          <p:pic>
            <p:nvPicPr>
              <p:cNvPr id="149" name="Rectangle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5280" y="2928240"/>
                <a:ext cx="12031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168240" y="294336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254430"/>
                    </a:solidFill>
                    <a:latin typeface="Arial"/>
                  </a:rPr>
                  <a:t>Nội d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Rectangle 3"/>
          <p:cNvSpPr/>
          <p:nvPr/>
        </p:nvSpPr>
        <p:spPr>
          <a:xfrm>
            <a:off x="407880" y="247680"/>
            <a:ext cx="473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4981680" y="2019240"/>
            <a:ext cx="3452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y thế hình ảnh giả này bằng hình ảnh của B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C:\Users\Administrator\Desktop\imath-icon1 (1).png"/>
          <p:cNvPicPr/>
          <p:nvPr/>
        </p:nvPicPr>
        <p:blipFill>
          <a:blip r:embed="rId2"/>
          <a:stretch/>
        </p:blipFill>
        <p:spPr>
          <a:xfrm>
            <a:off x="1008000" y="1601640"/>
            <a:ext cx="3157560" cy="31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6600" y="1873080"/>
            <a:ext cx="341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ctr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ây là nội dung gi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ick 2 lần vào biểu đồ đề thay đổi số l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ú th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3975120" y="917640"/>
            <a:ext cx="4838760" cy="4451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Administrator\Desktop\PowerPoint Dep full vien trang.png"/>
          <p:cNvPicPr/>
          <p:nvPr/>
        </p:nvPicPr>
        <p:blipFill>
          <a:blip r:embed="rId2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179800" y="2308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ff1f0"/>
                </a:solidFill>
                <a:latin typeface="Arial"/>
              </a:rPr>
              <a:t>"CẢM ƠN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28800"/>
            <a:ext cx="6091200" cy="86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Carcassonno</cp:lastModifiedBy>
  <cp:lastPrinted>2005-03-15T07:48:11Z</cp:lastPrinted>
  <dcterms:modified xsi:type="dcterms:W3CDTF">2013-05-04T02:51:54Z</dcterms:modified>
  <cp:revision>532</cp:revision>
  <dc:subject/>
  <dc:title>Green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